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8.wmf" ContentType="image/x-wmf"/>
  <Override PartName="/ppt/media/image30.png" ContentType="image/png"/>
  <Override PartName="/ppt/media/image24.jpeg" ContentType="image/jpeg"/>
  <Override PartName="/ppt/media/image23.wmf" ContentType="image/x-wmf"/>
  <Override PartName="/ppt/media/image18.wmf" ContentType="image/x-wmf"/>
  <Override PartName="/ppt/media/image26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5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35.wmf" ContentType="image/x-wmf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BFC-D860-4DF8-9750-A7EF61E2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F98-F87E-401D-8AD7-E542D11B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16C-2C6A-4B3D-A303-FD8BABB5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FF2-70C4-47C8-BB08-6B5C721A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A0BF-ED4A-49FA-BE09-73FE917A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8773-1935-494B-AFF4-97A4DA46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DBBB-F10C-4F95-A61C-97EA6742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0F15-A6CF-432B-B9A5-9C80B3D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169D-1CC9-459D-B96C-78921C50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621-A930-4680-820F-0F0AA0B3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422-5F56-4EBA-9887-457824BC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E04-641C-4B1E-B3A3-EE22FC2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9ADC-9F90-4599-A31E-52E3174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BC04-E979-44AC-9C33-E6C33DA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A42-2E55-4F17-B599-CD484C8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DC7C-FA50-421C-A319-4E0382DF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00BA-8E51-44A1-BBB8-CB04D59E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5DF-9CCE-4086-AD95-28B68A74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0AE-28A3-485C-A448-0515C69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CF7-0498-44D7-815F-035F234D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909-424A-4080-B331-13231C4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41F-C4A2-4804-947D-5B4D37D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21C-5FCD-412D-814A-70997A6D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F9F-E5F3-404C-A36E-11BD5BC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6986-8D1F-4948-A35B-4875F3F219F4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546E-03E5-45BD-B323-B2875755BF5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The Masses of Atom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3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524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Mass Numbers and Symbols of Isotop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5903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neutrons in isotopes vary, thus isotopes have different mass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and neutrons are called nucleons due to their location in the nucleu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s number (A) is the sum of the relative masses of the nucleon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neutrons can be easily calculated by subtracting the mass number from the atomic numbe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7272360" cy="22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19800" y="1700280"/>
            <a:ext cx="257328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47-4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Relative Mass Sca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 by Thomson and Chadwick led to the current accepted masses of subatomic particl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alues are far to small to be useful in a laboratory – therefore we use a relative mass scale based on carbon-12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isotopic mass (RIM) of each element can therefore be used in comparison to carbon-12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50920" y="3906720"/>
            <a:ext cx="6265800" cy="244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804000" y="3933720"/>
            <a:ext cx="172404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elative Atomic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8282160" cy="4062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Units of the Relative Mass Scale / RA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though not a SI unit, chemists use the symbol u (or amu) for relative ma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u = 1/12 the mass of carbon-12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lternative unit is the dalton (Da), which was named after John Dalt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te. Until 1961, the constant was based on oxygen-16, not carbon-12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ass of an element is dependent on the mass and abundance of it’s isotopes presen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ass of an element is therefore a weighted mea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weighted mean of the masses of the isotopes of an element on a scale which carbon-12 is 12 is known as the relative atomic mass (RAM) of the elemen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ymbol for RAM is A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Isotopic composition of some common element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920000" cy="4753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ass Spectrum Analysi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3456000" cy="482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65440" y="141300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2a00"/>
                </a:solidFill>
                <a:latin typeface="Arial"/>
              </a:rPr>
              <a:t>Mass spectrum of atomic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e2a00"/>
                </a:solidFill>
                <a:latin typeface="Arial"/>
              </a:rPr>
              <a:t>chlorin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3311640" cy="4751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40360" y="1628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A simplified mas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spectrum of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e2a00"/>
                </a:solidFill>
                <a:latin typeface="Arial"/>
              </a:rPr>
              <a:t>magnesiu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65160" y="404640"/>
            <a:ext cx="7999560" cy="626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620040" y="3213000"/>
            <a:ext cx="19843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tomic Mass Exampl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0978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1 – There are 3 isotop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2 – Abundance = peak height/total peak heigh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4 = 39/47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5 = 4/47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g-25 = 4/4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3 – The X shows the predicted RA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ep 4 – Multiply abundance by mass for each isotop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Mg) = 39/47x24 + 4/47x25 + 4/47x26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swer = 24.3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34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360" y="1484280"/>
            <a:ext cx="352728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351640" cy="511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RAM and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tomic Weights and Tabl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856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curacy in Chemistry is vital when measuring substanc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invention of measuring scales enabled more accuracy in scientific resear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ohn Dalton proposed that atoms could be compared with each by order of ma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s form of measurement is known as a relative scale (ie. How heavy atoms are relative to other atoms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ver time, tables of atomic weights were devis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26, Jons Berzelius a table of 50 known elemen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rzelius purified, analysed and weighed more than 2000 compounds over a 10 year period.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61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zeliu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12000" y="5565600"/>
            <a:ext cx="1074960" cy="1033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11 on P. 54-55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65964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elative Molecular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185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nowing the mass of elements, we can calculate the relative mass of molecu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molecular mass [RMM] (Symbol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mean mass of one molecule relative to carbon-12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76327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Calculating Relative Molecular Mas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7773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.0 x 2 = 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6.0 x 2 = 3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2.0 + 16.0 x 2 =44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0) = 1.0 x 2 + 16.0 = 18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N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4.0 + 1.0 x 3 = 17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= 12.0 x 5 + 1.0 x 12 = 72.0 amu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705672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2 on P. 5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oretical Percentage Compositi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44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oretical percentage composition by mass of a compound gives us the percentage by mass each element contribut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element = relative mass of element / relative mass of molecule or compound x 10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–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H = 2/18 x 100 = 11.1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O = 16/18 x 100 = 88.9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4716360" y="1844640"/>
          <a:ext cx="4105440" cy="205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844640"/>
                    <a:ext cx="410544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pplying Percentage Compositi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447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can also be translated to mass instead of percenta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g of water for example is made up of 11.1g hydrogen and 88.9g oxyge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3.4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61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424720" cy="4705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10 on P. 64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Berzelius’s Atomic Weight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8007480" cy="41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eight and Mas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489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ss (m) – How heavy any object is relative to 1 kilogram (kg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g. A 60kg person is 60 times as heavy as a 1 kg objec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ass of an atom is based on the sum of its subatomic particl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greater the number of particles, the heavier the atom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ight (W) – Is a measure the gravitational force acting on an objec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ce is measured in Newtons (N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 earth, objects experience 9.8N/k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g. A 60kg person has a weight of 588N on the earth’s surfac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international system of units such as m, W and N are called SI uni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383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505320" cy="427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516720" y="6021360"/>
            <a:ext cx="2627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ternational prototype, made of platinum-iridium, for 1 kg.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. 1kg = 1d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Isotop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12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uranium and thorium found that different forms of these elements exist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time, they thought that new elements were being form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 in 1913 Fredrick Soddy, termed these different elements isotop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chemically identic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746840" y="189000"/>
            <a:ext cx="117000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740720" y="2349360"/>
            <a:ext cx="1095480" cy="1368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4836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dd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1280" y="234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6767640" cy="303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308720" y="3860640"/>
            <a:ext cx="1656000" cy="2808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7708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Mass Spectra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097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vention of the mass spectrograph by British scientist Francis Aston enabled chemists to isolate each isotope by mass and abundanc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versions of the instrument are called mass spectrometer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put of these instruments is termed mass spect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21600" y="189000"/>
            <a:ext cx="768240" cy="1079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93080" y="83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799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547640" y="5734080"/>
            <a:ext cx="5838840" cy="95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onfusing Evidenc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0629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of Rutherford concluded that the nucleus of an atom contained positively charged particles called proton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gen has one proton, whereas Helium has two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mass of Helium was four times the mass of Hydrogen – not doubl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incorrectly predicted that the nucleus must also contain electrons to allow for the difference in mas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4005360"/>
            <a:ext cx="432108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885080" y="189000"/>
            <a:ext cx="966960" cy="126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3528720" cy="2351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2916360" y="5805000"/>
            <a:ext cx="32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165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known to Rutherfor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iscovering the Neutr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540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n’t until 1932, that James Chadwick proved that a neutrally particle called neutrons exist in the nucleu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wick’s experiments investigated the effects of alpha particles on a sample of Beryllium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scovered that some of the particles were not deflected by magnetic or electrical field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cluded that some particles have no charge. These particles within the atom are called neu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wick also measured the relative mass of neu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867280" y="1413000"/>
            <a:ext cx="3016440" cy="41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32720" y="566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wick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Summary of Sub-atomic Particle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46840" cy="306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328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3:13:42Z</dcterms:created>
  <dc:creator>DE&amp;T User</dc:creator>
  <dc:description/>
  <dc:language>en-US</dc:language>
  <cp:lastModifiedBy>DE&amp;T User</cp:lastModifiedBy>
  <dcterms:modified xsi:type="dcterms:W3CDTF">2008-02-12T01:27:01Z</dcterms:modified>
  <cp:revision>30</cp:revision>
  <dc:subject/>
  <dc:title>An Introduction to Chemistry</dc:title>
</cp:coreProperties>
</file>